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1F0B-F12D-434A-B4DE-E6FD4934A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59CC-B381-4670-B3C2-3BCC949DE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AF6F-8552-4569-B661-A1FA54B33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4E38-3177-49FA-B679-635D8BFCD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853A-2F1A-4972-BD87-4B821269D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010F-ED59-472F-8501-2F652A02F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CC5A-F04F-4D13-9111-A0A0D8E60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F921-90F4-4B21-9E0D-89782DA7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C779-FB4B-48A7-B052-02BAC9367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E620-F8EC-413E-84B5-839D11E8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4914-C847-4FC4-850F-58A32F1F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B360-DBE7-4099-9939-FD0591A3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04EF1-1EB5-4A01-AE67-41F7EAD06C35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Mis documentos\Sin título-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Mis documentos\Sin título-1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Mis documentos\Sin título-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Mis documentos\Sin título-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Mis documentos\Sin título-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Mis documentos\Sin título-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Mis documentos\Sin título-6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Mis documentos\Sin título-7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Mis documentos\Sin título-8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Mis documentos\Sin título-9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4T09:02:37Z</dcterms:created>
  <dc:creator>Grupo Editorial</dc:creator>
  <dc:description/>
  <dc:language>en-US</dc:language>
  <cp:lastModifiedBy>TORRES</cp:lastModifiedBy>
  <dcterms:modified xsi:type="dcterms:W3CDTF">2010-12-18T22:16:17Z</dcterms:modified>
  <cp:revision>1</cp:revision>
  <dc:subject/>
  <dc:title>Sin título de diapositiva</dc:title>
</cp:coreProperties>
</file>